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6140-4D57-482D-A06B-31BF06E86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88F3-7742-47AF-93C5-90CDCFB17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03C4-8FA6-4B58-8972-E424BCC1A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3A59-225B-4CB2-A1EF-BBC5E7F73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ABBF-8ACE-478E-8884-D180AB432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CFCC-AEBF-4137-ADF1-1AB91065B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C955-C16D-4E2F-B86D-5B430AD3F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A1D3-C37A-4A45-9E16-B23A4AAEF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5EB1-CB65-423F-9F42-33E8F430B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8D21-2AED-41D3-9419-10E20B99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B46A-C01B-4A80-A8D4-FCB1154A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4CC3-49F5-4385-8348-4CE8C326D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A8E6-05E5-4A69-AE74-3522F1D23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AA0C-1E19-43F9-B30A-1F0B6544E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447E-D4A0-4A28-AB9F-CFCBDDB45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0ECD-1985-419E-9039-63280E1FD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8E7A-790A-49AD-A290-CC4982214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2446-A81B-45DF-9B95-CF13BE9D7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9FF-0996-45ED-B131-48F71A6ED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45C1-ADF4-4D8E-84D6-1EBD82852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674D-68ED-4594-8A33-2982C6DD8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A7E4-7D89-4C2A-868E-613084658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2FA9-93AE-4BBD-BAE5-C9338A675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84CF-151D-435E-9468-79FEE45C9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40EC-89DF-4704-AA5F-C29F0043D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96A8-A471-428A-8937-820AB6372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7C8-4CF6-4B8D-9786-E5BE7996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345-ED73-4AB5-8273-6F4E2BE6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6A7-8587-42A3-B736-6B731670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A7E-FF42-4ECD-8A3C-ABCAE003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5982-508D-4141-B321-B95B6EA6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213B-1F1C-4BB3-9D0F-1233362B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772F-1175-4DC7-8008-311F47CD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2495-3421-48FA-99C0-5C043B4B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BD13-3EF0-4188-8474-B844F561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658A-53E4-43C0-9A9B-AF936956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F7BA-501C-4945-B658-0F81583B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A5A-B2E1-4F87-A398-2F90CCC1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0F2E-6FAE-48AA-A118-0742FDBA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274D-1C6B-4A0F-8EA2-A35E3F15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5F64-134E-41FE-A53C-D545AA1D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C835-F2CA-4DA4-BD6C-92D37789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EE52-B836-4E0B-9FC5-FC756EE1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FCA-DEBA-4551-A3DC-147B7149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3A9-5A8E-4D20-B01C-83825121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60A-6D4A-4DB3-B88F-A25EBEED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FA9-439D-438A-ADDF-9AF4C194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433-5F5E-42A3-9953-67AB4461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934-5F78-49BB-A766-523012A1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FE4-889D-45F4-9418-8890FA30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DEE3-2BE7-47B0-BD8D-A7B3F90EC2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0D3A-1C15-478B-AF71-B325389521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90720" y="15238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7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atorresz22</cp:lastModifiedBy>
  <dcterms:modified xsi:type="dcterms:W3CDTF">2010-09-07T19:14:15Z</dcterms:modified>
  <cp:revision>70</cp:revision>
  <dc:subject/>
  <dc:title>Lab Safety</dc:title>
</cp:coreProperties>
</file>